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SarahBrightman-LaCaliffa_-cut.wav" ContentType="audio/x-wav"/>
  <Override PartName="/ppt/media/image20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C6B7-ED2E-4025-873F-3A28ED93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216-42A7-4F1F-BE59-C88E3058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9954-293F-43CF-BF9C-CBF8E940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4BA-48A3-430A-9CC0-80C77678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AEE-824C-4CA0-8955-7FC73181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936-AF8D-4961-8582-E119BDEA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6AF4-9D70-4CD2-9F54-9BD8073C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301-FD0D-475A-BC15-5A6466AB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13D-668F-443E-B220-53DDDDCB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78B7-47CB-46B5-9726-AFC796EA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3A02-1DB9-43CB-B5C3-2E26D012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75AD-5F54-4414-A1C9-68D1E348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0B60-FA6A-4324-83CD-9C006C540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hyperlink" Target="http://www.diapositivas.com/" TargetMode="External"/><Relationship Id="rId6" Type="http://schemas.openxmlformats.org/officeDocument/2006/relationships/image" Target="../media/image2.png"/><Relationship Id="rId7" Type="http://schemas.openxmlformats.org/officeDocument/2006/relationships/audio" Target="../media/SarahBrightman-LaCaliffa_-cut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diapositivas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diapositivas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diapositivas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diapositivas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diapositivas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diapositivas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diapositivas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http://www.diapositivas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diapositivas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diapositivas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diapositivas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diapositivas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diapositivas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diapositivas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diapositivas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diapositivas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diapositivas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diapositivas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0844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67096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229360"/>
            <a:ext cx="68580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Wait for music to start.   Enjoy the pictures with the mus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Slides will advance automatically every 5 secon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Click or press a key to advance manu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Have Fun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2349360"/>
            <a:ext cx="84582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Japonese Paper Folding Art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84360" y="620640"/>
            <a:ext cx="38386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ORIGAMI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 thruBlk="true"/>
    <p:sndAc>
      <p:stSnd>
        <p:snd r:embed="rId7" name="SarahBrightman-LaCaliffa_-cu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14332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0894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0" b="-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3168720" cy="549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79448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771640" y="6402240"/>
            <a:ext cx="2448000" cy="455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65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11160"/>
            <a:ext cx="9144000" cy="459000"/>
            <a:chOff x="0" y="11160"/>
            <a:chExt cx="9144000" cy="459000"/>
          </a:xfrm>
        </p:grpSpPr>
        <p:sp>
          <p:nvSpPr>
            <p:cNvPr id="91" name=""/>
            <p:cNvSpPr/>
            <p:nvPr/>
          </p:nvSpPr>
          <p:spPr>
            <a:xfrm>
              <a:off x="0" y="11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11160"/>
              <a:ext cx="260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Times New Roman"/>
                  <a:ea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0" y="11160"/>
            <a:ext cx="9144000" cy="459000"/>
            <a:chOff x="0" y="11160"/>
            <a:chExt cx="9144000" cy="459000"/>
          </a:xfrm>
        </p:grpSpPr>
        <p:sp>
          <p:nvSpPr>
            <p:cNvPr id="94" name=""/>
            <p:cNvSpPr/>
            <p:nvPr/>
          </p:nvSpPr>
          <p:spPr>
            <a:xfrm>
              <a:off x="0" y="11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1160"/>
              <a:ext cx="260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Times New Roman"/>
                  <a:ea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0" y="11160"/>
            <a:ext cx="9144000" cy="459000"/>
            <a:chOff x="0" y="11160"/>
            <a:chExt cx="9144000" cy="459000"/>
          </a:xfrm>
        </p:grpSpPr>
        <p:sp>
          <p:nvSpPr>
            <p:cNvPr id="97" name=""/>
            <p:cNvSpPr/>
            <p:nvPr/>
          </p:nvSpPr>
          <p:spPr>
            <a:xfrm>
              <a:off x="0" y="11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1160"/>
              <a:ext cx="260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Times New Roman"/>
                  <a:ea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0" b="-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76720" y="0"/>
            <a:ext cx="2757600" cy="455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66"/>
          <a:stretch/>
        </p:blipFill>
        <p:spPr>
          <a:xfrm>
            <a:off x="2340000" y="0"/>
            <a:ext cx="530856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08720" y="6200640"/>
            <a:ext cx="2303280" cy="657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0" r="0" b="-9"/>
          <a:stretch/>
        </p:blipFill>
        <p:spPr>
          <a:xfrm>
            <a:off x="0" y="228600"/>
            <a:ext cx="9144000" cy="6311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580000" y="6134040"/>
            <a:ext cx="2376720" cy="723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65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4191120"/>
            <a:ext cx="5867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661000"/>
            <a:ext cx="54100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Comic Sans MS"/>
              </a:rPr>
              <a:t>You can wait for music to end, or…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Comic Sans MS"/>
              </a:rPr>
              <a:t>Press Esc to end the pres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Comic Sans MS"/>
              </a:rPr>
              <a:t>Hope you enjoyed the show and had fun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11280" y="4365720"/>
            <a:ext cx="27144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En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95640" y="404640"/>
            <a:ext cx="4824360" cy="3551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6153120"/>
            <a:ext cx="2556000" cy="7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22:23:33Z</dcterms:created>
  <dc:creator>*</dc:creator>
  <dc:description>modificado por LT:substitui quase todas as fotos, inseri som e animação, modifiquei o primeiro e último slide.</dc:description>
  <dc:language>en-US</dc:language>
  <cp:lastModifiedBy>OEM</cp:lastModifiedBy>
  <dcterms:modified xsi:type="dcterms:W3CDTF">2006-03-10T11:53:16Z</dcterms:modified>
  <cp:revision>10</cp:revision>
  <dc:subject>Japonese Paper Folding Art</dc:subject>
  <dc:title>Origami</dc:title>
</cp:coreProperties>
</file>